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597C26-A029-4594-BCF9-317A1487C7A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E38D7C-FD0F-4286-A275-C941E43D8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A45717-15FF-4BED-88ED-2F85EBE53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02F1B7-E4FC-4D13-9327-C18CC2388E2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676C8C-FC05-4F94-99A3-CC7793F07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7DC8B5-9C6F-4FBA-8039-2EEFE1C63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9BEA03-A495-4B93-83B0-286F23D5D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92AAA3-4A7C-469B-ADEE-A27FB0F1D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689325-017D-4EEF-87CB-BC3BCEA5F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740655-31A6-415E-8D30-EF0A2DAFF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1EEF15-D151-4DBE-AB54-744E7053F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9E9783-5CA2-4662-8242-9C790C5F0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7527960" y="6499080"/>
            <a:ext cx="1127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8637480" y="6551640"/>
            <a:ext cx="13176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8866080" y="6553080"/>
            <a:ext cx="13176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93360" y="6400440"/>
            <a:ext cx="10652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93720" y="6553080"/>
            <a:ext cx="84456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B779653E-09CD-43E9-9E21-90CA03E0C6B5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6680" y="1523880"/>
            <a:ext cx="807732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96880" y="1676520"/>
            <a:ext cx="764712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28144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41120" y="6400440"/>
            <a:ext cx="2665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191120" y="5029200"/>
            <a:ext cx="451944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RNDC and TSIG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sing TSIG to protect AXF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riving a secr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dnssec-keygen -a ... -b ... -n... nam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nfiguring the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 named.conf file, same syntax as for rndc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key { algorithm ...; secret ...;}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ing use of the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 named.conf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server x { key ...; }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here 'x' is an IP number of the other serv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7C2E5C-947E-4F82-A2A7-E2C12BB0F667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figuration Examp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3" name=""/>
          <p:cNvSpPr/>
          <p:nvPr/>
        </p:nvSpPr>
        <p:spPr>
          <a:xfrm>
            <a:off x="533520" y="1676520"/>
            <a:ext cx="4572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Times New Roman"/>
              </a:rPr>
              <a:t>Primary server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9999"/>
                </a:solidFill>
                <a:latin typeface="Times New Roman"/>
                <a:ea typeface="Osaka"/>
              </a:rPr>
              <a:t>10.33.40.46</a:t>
            </a:r>
            <a:endParaRPr b="0" lang="en-US" sz="19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gorithm hmac-md5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cret "APlaceToBe"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rver 10.33.40.35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s {ns1-ns2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zone "my.zone.test."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type master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file...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low-transfer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3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267080" y="1676520"/>
            <a:ext cx="4572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Times New Roman"/>
              </a:rPr>
              <a:t>Secondary server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9999"/>
                </a:solidFill>
                <a:latin typeface="Times New Roman"/>
                <a:ea typeface="Osaka"/>
              </a:rPr>
              <a:t>10.33.40.35</a:t>
            </a:r>
            <a:endParaRPr b="0" lang="en-US" sz="19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gorithm hmac-md5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cret "APlaceToBe"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rver 10.33.40.46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s {ns1-ns2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zone "my.zone.test."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type slave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file...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masters {10.33.40.46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low-transfer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27280" y="5907240"/>
            <a:ext cx="72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gain, the secret looks okay, but is purposely invalid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1EDC09-A093-4677-9593-FD635186B91B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IME!!!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is time sensitive - to stop repla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essage protection expires in 5 minu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ke sure time is synchroniz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testing, set the 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 operations, (secure) NTP is need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A88B70-8818-4F1E-854C-99B41E2C6C80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uses of TS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was designed for other purpo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tecting sensitive stub resolv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s has proven hard to accomplis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ynamic Upd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iscussed later, securing this relies on TSI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DFE56B-1C18-4522-85D9-2A2C1D492C7D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lternatives to TS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G (0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ublic key approach to same servic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as potential, but not much experience ye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eans to start with SIG(0) and wind up with TSI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lso, Microsoft uses this with Kerberos via GSSAP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04CC21-328D-4AA0-9762-E4DEE2C03E42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is RNDC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mote Name Daemon Controll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and-line control of named daem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ually on same host, can be across ho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CD1990-4DB2-45FD-847E-5A51D972AF3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figuring RNDC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"rndc-conf" generates lines to be added to two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.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ndc.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76CA7-A4D6-4696-8C53-822164CDA3D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Enabling RNDC in th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key defin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key rndc_key {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secret "</a:t>
            </a: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dY7/uIiR0fKGvi5z50+Q==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"; algorithm hmac-md5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arning: example secret looks good but is invalid (don't copy it!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ntrols statem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controls {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inet 127.0.0.1 port 953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     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allow { 127.0.0.1; }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     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keys { "rndc-key"; }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919C7A-7988-4F89-8726-BFDB22E17548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sing an rndc.conf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/etc/rndc.conf specifies defaults for rnd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.g.,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key "rndc-key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algorithm hmac-md5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secret "dY7/uIiR0fKGvi5z50+Q==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options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efault-key "rndc-key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efault-server 127.0.0.1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efault-port 953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50C1E1-1F76-438D-A799-EA6E2FEE0C23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can be done with RNDC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stop - kills serv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status - prints some inform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stats - generates stat file (named.stat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reload - refresh zone(s), w/varia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trace - increases debug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flush - removes cached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commands in the AR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348809-0E7F-4209-9AA6-CAA98E7D977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is TSIG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mechanism for protecting a message from a resolver to server and vice vers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keyed-hash is applied (like a digital signature) so recipient can verify messa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ased on a shared secret - both sender and reciever are configured with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FD6DD2-F2A9-437B-B78F-95E7CB8ED703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SIG and Message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1" name=""/>
          <p:cNvSpPr/>
          <p:nvPr/>
        </p:nvSpPr>
        <p:spPr>
          <a:xfrm>
            <a:off x="2895480" y="1828800"/>
            <a:ext cx="2438640" cy="83808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Head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95480" y="2666880"/>
            <a:ext cx="2438640" cy="83844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Question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95480" y="3505320"/>
            <a:ext cx="2438640" cy="83808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nsw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895480" y="4343400"/>
            <a:ext cx="2438640" cy="83808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uthority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895480" y="5181480"/>
            <a:ext cx="2438640" cy="91440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dditional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&amp; TSIG data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666880" y="1752480"/>
            <a:ext cx="3353040" cy="3886200"/>
          </a:xfrm>
          <a:prstGeom prst="rect">
            <a:avLst/>
          </a:prstGeom>
          <a:noFill/>
          <a:ln w="38160">
            <a:solidFill>
              <a:srgbClr val="01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97480" y="2743200"/>
            <a:ext cx="154944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’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Original Message Format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DA81A8-BF00-4081-8526-C75571990528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es and Secret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 name is given to the key, the name is what is transmitted in the message (so receiver knows what key the sender used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secret valu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 value determined during key gener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Usually seen in Base64 encod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'Looks' like the rndc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ND uses same interface for TSIG and RNDC key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9CD94C-B04D-462A-8ED7-3F46507EA79B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31T16:17:50Z</dcterms:created>
  <dc:creator>edward lewis</dc:creator>
  <dc:description/>
  <dc:language>en-US</dc:language>
  <cp:lastModifiedBy>Marmaduke Wildebeeste</cp:lastModifiedBy>
  <cp:lastPrinted>2003-02-20T08:17:40Z</cp:lastPrinted>
  <dcterms:modified xsi:type="dcterms:W3CDTF">2003-06-01T20:50:02Z</dcterms:modified>
  <cp:revision>25</cp:revision>
  <dc:subject/>
  <dc:title>PowerPoint Presentation  -  RNDC and TSIG</dc:title>
</cp:coreProperties>
</file>